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0D43-2718-4435-96A8-7E3A9A789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2C9A-236A-48F7-813F-A1A8A483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4C2A-B238-487F-BA8F-9850A867B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EBDF-39AE-4EFB-B5B5-9A7380DD3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9064-1E36-420A-B2CC-474413B8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7B52-CEC0-434B-8A45-034632D2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8421-7A38-4F40-9396-AD096317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BEEA-7AB0-4A05-9AB0-564F731B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4389-FDBD-4B2B-81F7-DCF6BD05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937F-9156-4AE4-889A-23948BA7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DEB7-D69D-4D4B-9969-56977DB9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8328-45FB-40F4-8EF0-24B28D8A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5341-F96C-46A6-AC44-3B352D0090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5280" y="260280"/>
            <a:ext cx="8229600" cy="584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ы обработки с трехполюсником в цепи обратной связ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ю области возможных видов функционального пре­образования с помощью ОУ способствует переход на использова­ние в схемах рис. 11.5 в цепи OOCвместо двухполюсника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хполюсника (рис. 11.6). Осуществим анализ свойств этих схем на основе изложенных в §11.4 принципов и вытекающих из них соотношений (11.7) и (11.8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11.6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1" descr=""/>
          <p:cNvPicPr/>
          <p:nvPr/>
        </p:nvPicPr>
        <p:blipFill>
          <a:blip r:embed="rId1"/>
          <a:srcRect l="0" t="0" r="0" b="4959"/>
          <a:stretch/>
        </p:blipFill>
        <p:spPr>
          <a:xfrm>
            <a:off x="971640" y="1484280"/>
            <a:ext cx="296532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весовой множитель, с которым входит суммарный сигнал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выx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пряжение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вxk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k-го источника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— число суммируемых сигна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ым свойством рассмотренных схем является то, что в них подключение к точк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рактически любого количества дополнительных источников тока или других цепей с ненулевым выходным сопротивлением не приводит к изменениям характера передачи напряжения от остальных источников. Свойство взаимонезависимого суммирования токов от ряда источников широко используется при построении устройств аналого-цифрового преобразования и ряда друг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ует отметить, что свойством взаимонезависимого суммирования не обладает так называемый вычитающий сумматор (рис. 11.14), организованный на основе комбинированного включения (рис. 11.5, б). В нем точк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е является нулевой суммирующей точкой, так как ее потенциал в условиях действия глубокой OOCфактически повторяет потенциал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вх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результате этого значения ток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i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зависят не только от соответствующих входных напряжени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u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вхn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и от напряж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вх+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этойсхеме нарушению принципа взаимонезависимого суммирования способствует также то, что передаточные свойства сигнального напряж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вх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зависят от общего выходного сопротивл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вы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источников сигнал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вх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дключенных к точке а, а имен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Times New Roman"/>
              </a:rPr>
              <a:t>вых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=(1+R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Times New Roman"/>
              </a:rPr>
              <a:t>вых-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Times New Roman"/>
              </a:rPr>
              <a:t>вх-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-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1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вы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=1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1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+ ... +1/R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указанным причинам схема рис. </a:t>
            </a:r>
            <a:r>
              <a:rPr b="0" lang="ru-RU" sz="1200" spc="-1" strike="noStrike">
                <a:solidFill>
                  <a:srgbClr val="000000"/>
                </a:solidFill>
                <a:latin typeface="Sylfaen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5, в находит ограниченное практическое примен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стейшие частотно-селектирующие цепи на базе О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о функциональное построение схем обработки аналоговых сигналов требует создания устройств с частотно-зависимым характером коэффициента усиления, наблюдаемым в определенной частотной области, начиная с некоторой частоты, называемой частотой среза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ср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. На этой частоте коэффициент усиления меньше своего номинальн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значения в  раз (спад нормированной АЧХ составляет 3 дБ). На рис. 11.15 приведены логарифмические АЧХ простейших устройств этого типа. Устройства с АЧХ такого вида называются фильтрующими цепями или звеньями первого порядка. В этих цепях й области их фильтрующего воздействия коэффициент усиления пропорционален частоте. При этом в фильтре нижних частот (ФНЧ) на частота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&gt;&gt;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c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сходит пропорциональное частоте его уменьшение, а в фильтре верхних частот (ФВЧ) на частота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&lt;&lt;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c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— пропорциональное частоте его возрастание, т. е. графики АЧХ в этих частотных областях имеют наклон 20 дБ на декаду частотных изме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отные свойства звеньев первого порядка определяются следующими соотношения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ФН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jf)=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/ (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jf/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с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11.20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/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ФВ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jf) =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/ (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с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jf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1.20б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) =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/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од графиков АЧХ (11.20) с приемлемой для практики точностью может быть аппроксимирован с помощью ломаной лин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8" descr=""/>
          <p:cNvPicPr/>
          <p:nvPr/>
        </p:nvPicPr>
        <p:blipFill>
          <a:blip r:embed="rId1"/>
          <a:srcRect l="0" t="0" r="0" b="16068"/>
          <a:stretch/>
        </p:blipFill>
        <p:spPr>
          <a:xfrm>
            <a:off x="1619280" y="3141720"/>
            <a:ext cx="5616720" cy="1854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995640" y="5300640"/>
            <a:ext cx="86364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Рис.11.1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торая состоит из двух пересекающихся прямых. Наибольшее расхождение таким образом аппроксимированных функций (11.20) относительно их истинных значений приходится на частоту /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 и составляет 3 дБ, в то время как на частотах, отличных от нее в два раза, эта ошибка не превышает +0,1дБ (рис. 11.15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яде случаев устройство с АЧХ (11.20а) называют интегрирующим, а с АЧХ (11.20) —дифференцирующим. Названия такого типа обусловлены тем, что в области существенных частотных изменений коэффициента усиления (при f&gt;&gt;f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ср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ля ФВЧ и f&lt;&lt;f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ср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ля ФНЧ) частотные свойства указанных устройств совпадают со свойствами идеального соответственно интегрирующего и дифференцирующего устройств, частотные характеристики которых определяются соотношения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идеального интегрирующего устро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K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jf) =K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f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cp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/jf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11.21а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(f) =K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f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cp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/f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идеального дифференцирующего устро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K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jf) =K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jf/f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cp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 algn="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11.21б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K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jf) =K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f/f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cp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о устройства с АЧХ рис. 11.15, а называют инерционным звеном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с АЧХ рис.11.15,б — ускоряющим, так как первое из них создает фазовые сдвиги запаздывающего характера(групповое время запаздывания в нем положительно), а второе — опережающего (групповое время запаздывания — отрицательн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рис. 11.16 приведены схемные построения на ОУ, обладающие рассмотренными частотными свойствами фильтрующих цепей первого порядка, при этом схема рис. 11.16, а является инерционным звеном, частотную характеристику которого задает (11.20а), а схема рис. 11.16,б— ускоряющим с частотной характеристикой, определяемой соотношением (11.206). При этом согласно проведенным с помощью (5.2а) вычислениям для случая, когда R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выхОУ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0, а R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вхОУ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∞, значения входящих в (11.20) параметров K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f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ср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определяются формул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9" descr=""/>
          <p:cNvPicPr/>
          <p:nvPr/>
        </p:nvPicPr>
        <p:blipFill>
          <a:blip r:embed="rId1"/>
          <a:srcRect l="0" t="0" r="0" b="14194"/>
          <a:stretch/>
        </p:blipFill>
        <p:spPr>
          <a:xfrm>
            <a:off x="2700360" y="4869000"/>
            <a:ext cx="3800520" cy="1152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067280" y="6093000"/>
            <a:ext cx="11523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Рис.11.1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= K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д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/(Rl+RlK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д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для схем рис. 11.16, а, б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Times New Roman"/>
              </a:rPr>
              <a:t>ср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= [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/Rl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(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д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)]/2πCR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для схемы рис. 11.16, 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cp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=(l+K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д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)/2πC(Rl+R1K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д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—для схемы рис. 11.16,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словиях действия глубокой 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/R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для схем рис. 11.16, а, б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Times New Roman"/>
              </a:rPr>
              <a:t>с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/2πCR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для схемы рис. 11.16, 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Times New Roman"/>
              </a:rPr>
              <a:t>ср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=1/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R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для схемы рис. 11.16,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линейные устройства на базе ОУ с нелинейной цепью обратной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а устройств нелинейного преобразования аналоговых сигналов основана на использовании в схеме рис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а нелинейных двухполюсников и цепей. Наиболее полно представление о свойстве нелинейного элемента (НЭ) дают его ВАХ. При этом различают прямую ВАХ, в которой в качестве аргумента выступает напряж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н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в качестве функции — то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порождаемый этим напряжением, и обратную ВАХ, представляющую зависимость напряжения от тока. Таким образом, прямой BAXявляется функция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, а обратно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. Так, в случае, когда в качестве НЭ используется дио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= f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) = I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[ехр(U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]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1.22 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I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)= U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n(I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/ I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+ 1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1.22 б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прямая и обратная BAXнелинейного элемента соответственно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— ток насыщения обратносмещенн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-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хода. В условиях, когда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exp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/U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)&gt;&gt;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&gt;&gt;I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)≈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ехр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/U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1.23 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I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)≈U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n(I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/ I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1.23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передаточных свойств ОУ с нелинейными элементами в цепи ОС показывает, что при построении устройства по схеме рис. 11.17, а, когда НЭ находится на входе устройства, а линей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360" y="400536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зистор — в цепи ОС, зависим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вы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вx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падает по своему характеру с прямой BAX нелинейного элемента, т. е. имеет ви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вых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a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в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хеме рис. 11.17,6 передаточные свойства определяются обратной BAX нелинейного элемента, т. е. имеют ви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вых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a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в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.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а,b — постоянные множители. В соответствии с изложенным устройства типа рис. 11.17, а будем называть устройствами прямого функционального преобразования, а устройства типа рис. 11.17,6 — обрат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рис. 11.18 приведены схемы прямого (рис. 11.18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обратного (рис. 11.18,6) функционального преобразования для случая, когда в качестве НЭ используется открытый ди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хеме рис. 11.18, а согласно (11.7) и (11.8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; U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в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вы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зультате этого и с учетом соотношения (11.23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выx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ехр(</a:t>
            </a:r>
            <a:r>
              <a:rPr b="0" i="1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в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т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11.2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— постоянное число. Из (11.24) следует, что выходной сигнал пропорционален антилогарифму величины </a:t>
            </a:r>
            <a:r>
              <a:rPr b="0" i="1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в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поэтому схему рис. 11.18, а называют схемой антилогарифмирования или схемой потенци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10" descr=""/>
          <p:cNvPicPr/>
          <p:nvPr/>
        </p:nvPicPr>
        <p:blipFill>
          <a:blip r:embed="rId1"/>
          <a:srcRect l="0" t="0" r="0" b="13988"/>
          <a:stretch/>
        </p:blipFill>
        <p:spPr>
          <a:xfrm>
            <a:off x="1692360" y="189000"/>
            <a:ext cx="4680000" cy="13683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1" descr=""/>
          <p:cNvPicPr/>
          <p:nvPr/>
        </p:nvPicPr>
        <p:blipFill>
          <a:blip r:embed="rId2"/>
          <a:srcRect l="0" t="0" r="0" b="15213"/>
          <a:stretch/>
        </p:blipFill>
        <p:spPr>
          <a:xfrm>
            <a:off x="1908000" y="1557360"/>
            <a:ext cx="4608720" cy="1708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732720" y="692280"/>
            <a:ext cx="9363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Рис.11.1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6804000" y="2421000"/>
            <a:ext cx="9349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Рис.11.1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хеме рис. 11.18,6 согласно (11.7) и (11.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; U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выx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; U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Times New Roman"/>
              </a:rPr>
              <a:t>вх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1.25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итывая это и соотношение (11.23б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вы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т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n(</a:t>
            </a:r>
            <a:r>
              <a:rPr b="0" i="1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вх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/RI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) = U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nx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(11.25б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lang="en-US" sz="1200" spc="-1" strike="noStrike">
                <a:solidFill>
                  <a:srgbClr val="000000"/>
                </a:solidFill>
                <a:latin typeface="Sylfaen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Sylfaen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Sylfaen"/>
              </a:rPr>
              <a:t>U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Sylfaen"/>
              </a:rPr>
              <a:t>вх</a:t>
            </a:r>
            <a:r>
              <a:rPr b="0" lang="ru-RU" sz="1200" spc="-1" strike="noStrike">
                <a:solidFill>
                  <a:srgbClr val="000000"/>
                </a:solidFill>
                <a:latin typeface="Sylfaen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Sylfaen"/>
              </a:rPr>
              <a:t>RI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Sylfaen"/>
              </a:rPr>
              <a:t>0</a:t>
            </a:r>
            <a:r>
              <a:rPr b="0" lang="ru-RU" sz="1200" spc="-1" strike="noStrike">
                <a:solidFill>
                  <a:srgbClr val="000000"/>
                </a:solidFill>
                <a:latin typeface="Sylfaen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Sylfaen"/>
              </a:rPr>
              <a:t>I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Sylfaen"/>
              </a:rPr>
              <a:t>н</a:t>
            </a:r>
            <a:r>
              <a:rPr b="0" lang="ru-RU" sz="1200" spc="-1" strike="noStrike">
                <a:solidFill>
                  <a:srgbClr val="000000"/>
                </a:solidFill>
                <a:latin typeface="Sylfaen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Sylfaen"/>
              </a:rPr>
              <a:t>I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Sylfaen"/>
              </a:rPr>
              <a:t>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нормированное значение входного напряжения. Соотношение (11.25 б) показывает, что схема рис. 11.18,6 может выполнять операцию логарифмирования сигналов, поэтому ее часто называют схемой логарифм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апазон приемлемого по точности логарифмирования ограничен тем, что как при малых, так и больших значениях токов диод теряет нелинейные свойства, в результате чего его BAXстановится отличной от логарифмической. Рассмотрим погрешности логарифмирования, возникающие в области как малых, так и больших значений входных напряжений. Точность логарифмирования при данном напряжении </a:t>
            </a:r>
            <a:r>
              <a:rPr b="0" lang="en-US" sz="1200" spc="-1" strike="noStrike">
                <a:solidFill>
                  <a:srgbClr val="000000"/>
                </a:solidFill>
                <a:latin typeface="Sylfaen"/>
              </a:rPr>
              <a:t>U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Sylfaen"/>
              </a:rPr>
              <a:t>вых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Sylfaen"/>
              </a:rPr>
              <a:t>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выходе рассматриваемой (реальной) схемы по сравнению с выходным напряжением U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Sylfaen"/>
              </a:rPr>
              <a:t>вых 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деально логарифмирующей схемы будем оценивать относительной погрешность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δ =(</a:t>
            </a:r>
            <a:r>
              <a:rPr b="0" lang="en-US" sz="1200" spc="-1" strike="noStrike">
                <a:solidFill>
                  <a:srgbClr val="000000"/>
                </a:solidFill>
                <a:latin typeface="Sylfaen"/>
              </a:rPr>
              <a:t>U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Sylfaen"/>
              </a:rPr>
              <a:t>вых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Sylfaen"/>
              </a:rPr>
              <a:t>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U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Sylfaen"/>
              </a:rPr>
              <a:t>вых 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 /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Sylfaen"/>
              </a:rPr>
              <a:t>вых и</a:t>
            </a:r>
            <a:r>
              <a:rPr b="0" lang="ru-RU" sz="1200" spc="-1" strike="noStrike">
                <a:solidFill>
                  <a:srgbClr val="000000"/>
                </a:solidFill>
                <a:latin typeface="Sylfae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ри этом погреш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ем рассматривать как функцию нормированного значения </a:t>
            </a:r>
            <a:r>
              <a:rPr b="0" lang="ru-RU" sz="1200" spc="-1" strike="noStrike">
                <a:solidFill>
                  <a:srgbClr val="000000"/>
                </a:solidFill>
                <a:latin typeface="Sylfaen"/>
              </a:rPr>
              <a:t>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ходного напряжения </a:t>
            </a:r>
            <a:r>
              <a:rPr b="0" lang="en-US" sz="1200" spc="-1" strike="noStrike">
                <a:solidFill>
                  <a:srgbClr val="000000"/>
                </a:solidFill>
                <a:latin typeface="Sylfaen"/>
              </a:rPr>
              <a:t>U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Sylfaen"/>
              </a:rPr>
              <a:t>вх</a:t>
            </a:r>
            <a:r>
              <a:rPr b="0" lang="ru-RU" sz="1200" spc="-1" strike="noStrike">
                <a:solidFill>
                  <a:srgbClr val="000000"/>
                </a:solidFill>
                <a:latin typeface="Sylfaen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lang="en-US" sz="1200" spc="-1" strike="noStrike">
                <a:solidFill>
                  <a:srgbClr val="000000"/>
                </a:solidFill>
                <a:latin typeface="Sylfaen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Sylfaen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Sylfaen"/>
              </a:rPr>
              <a:t>U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Sylfaen"/>
              </a:rPr>
              <a:t>вх</a:t>
            </a:r>
            <a:r>
              <a:rPr b="0" lang="ru-RU" sz="1200" spc="-1" strike="noStrike">
                <a:solidFill>
                  <a:srgbClr val="000000"/>
                </a:solidFill>
                <a:latin typeface="Sylfaen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Sylfaen"/>
              </a:rPr>
              <a:t>RI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Использование нормированных значений напряжений вместо фактических обеспечивает достаточную общность полученных при рассмотрении результатов, расширяет сферу их возможного приме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малых уровнях напряжения </a:t>
            </a:r>
            <a:r>
              <a:rPr b="0" lang="en-US" sz="1200" spc="-1" strike="noStrike">
                <a:solidFill>
                  <a:srgbClr val="000000"/>
                </a:solidFill>
                <a:latin typeface="Sylfaen"/>
              </a:rPr>
              <a:t>U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Sylfaen"/>
              </a:rPr>
              <a:t>в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Sylfaen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Sylfaen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гда его нормированное значение </a:t>
            </a:r>
            <a:r>
              <a:rPr b="0" lang="ru-RU" sz="1200" spc="-1" strike="noStrike">
                <a:solidFill>
                  <a:srgbClr val="000000"/>
                </a:solidFill>
                <a:latin typeface="Sylfaen"/>
              </a:rPr>
              <a:t>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тановится малым или соизмеримым с единицей и условие I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gt;&gt;I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е выполняется, передаточная характеристика схемы рис. 11.18,бстановится в соответствии с (11.226) и (11.25а) отличной от идеально логарифмирующей (11.23б), а имен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Sylfaen"/>
              </a:rPr>
              <a:t>U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Sylfaen"/>
              </a:rPr>
              <a:t>вых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Sylfaen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n(</a:t>
            </a:r>
            <a:r>
              <a:rPr b="0" i="1" lang="en-US" sz="1200" spc="-1" strike="noStrike">
                <a:solidFill>
                  <a:srgbClr val="000000"/>
                </a:solidFill>
                <a:latin typeface="Sylfaen"/>
              </a:rPr>
              <a:t>U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Sylfaen"/>
              </a:rPr>
              <a:t>в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Sylfaen"/>
              </a:rPr>
              <a:t>x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/RI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n(х +1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1.2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. е. логарифмированию согласно (11.26) подвергаетс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самовходное нормированное напряжение х, а на единицу большее его значение. Относительная погреш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х) такого преобразования по сравнению с преобразованием в схеме с идеальной логарифмирующей передаточной функцией (11.23б) при малых значениях </a:t>
            </a:r>
            <a:r>
              <a:rPr b="0" lang="ru-RU" sz="1200" spc="-1" strike="noStrike">
                <a:solidFill>
                  <a:srgbClr val="000000"/>
                </a:solidFill>
                <a:latin typeface="Sylfaen"/>
              </a:rPr>
              <a:t>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определяется соотнош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х) = [ln(x+ 1) -lnx]/l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х≈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n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1.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бласти больших сигналов потери нелинейных свойств диодной цепи ОС связана с ненулевой величиной линейного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X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противления базовой области г с. Это сопротивление включено последовательно с нелинейны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ереходом. То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протекая через сопротивл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создает в цепи ОС дополнительное падение напряж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вх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В результате этого и учитывая (11.236) при больших значениях х в схеме рис. 11.18,бвыходное напряжение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Times New Roman"/>
              </a:rPr>
              <a:t>выхр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Times New Roman"/>
              </a:rPr>
              <a:t>т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x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Times New Roman"/>
              </a:rPr>
              <a:t>вх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Times New Roman"/>
              </a:rPr>
              <a:t>б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≠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x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Times New Roman"/>
              </a:rPr>
              <a:t>вых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В результате погреш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200" spc="-1" strike="noStrike">
                <a:solidFill>
                  <a:srgbClr val="000000"/>
                </a:solidFill>
                <a:latin typeface="Courier New"/>
              </a:rPr>
              <a:t>(х)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бласти значений сигналов &gt;&gt;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х) </a:t>
            </a:r>
            <a:r>
              <a:rPr b="0" i="1" lang="en-US" sz="1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[ </a:t>
            </a:r>
            <a:r>
              <a:rPr b="0" i="1" lang="en-US" sz="12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Courier New"/>
              </a:rPr>
              <a:t>T</a:t>
            </a:r>
            <a:r>
              <a:rPr b="0" i="1" lang="en-US" sz="1200" spc="-1" strike="noStrike">
                <a:solidFill>
                  <a:srgbClr val="000000"/>
                </a:solidFill>
                <a:latin typeface="Courier New"/>
              </a:rPr>
              <a:t>Inх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+ </a:t>
            </a:r>
            <a:r>
              <a:rPr b="0" i="1" lang="en-US" sz="12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Courier New"/>
              </a:rPr>
              <a:t>вх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Times New Roman"/>
              </a:rPr>
              <a:t>б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2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Courier New"/>
              </a:rPr>
              <a:t>T</a:t>
            </a:r>
            <a:r>
              <a:rPr b="0" i="1" lang="en-US" sz="1200" spc="-1" strike="noStrike">
                <a:solidFill>
                  <a:srgbClr val="000000"/>
                </a:solidFill>
                <a:latin typeface="Courier New"/>
              </a:rPr>
              <a:t>Inx]/U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Courier New"/>
              </a:rPr>
              <a:t>T</a:t>
            </a:r>
            <a:r>
              <a:rPr b="0" i="1" lang="en-US" sz="12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x</a:t>
            </a:r>
            <a:r>
              <a:rPr b="0" i="1" lang="en-US" sz="1200" spc="-1" strike="noStrike">
                <a:solidFill>
                  <a:srgbClr val="000000"/>
                </a:solidFill>
                <a:latin typeface="Courier New"/>
              </a:rPr>
              <a:t>=(r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Courier New"/>
              </a:rPr>
              <a:t>б</a:t>
            </a:r>
            <a:r>
              <a:rPr b="0" i="1" lang="en-US" sz="1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i="1" lang="en-US" sz="1200" spc="-1" strike="noStrike">
                <a:solidFill>
                  <a:srgbClr val="000000"/>
                </a:solidFill>
                <a:latin typeface="Courier New"/>
              </a:rPr>
              <a:t>/U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Courier New"/>
              </a:rPr>
              <a:t>T</a:t>
            </a:r>
            <a:r>
              <a:rPr b="0" i="1" lang="en-US" sz="1200" spc="-1" strike="noStrike">
                <a:solidFill>
                  <a:srgbClr val="000000"/>
                </a:solidFill>
                <a:latin typeface="Courier New"/>
              </a:rPr>
              <a:t>)/(x/lnx)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11.2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 возможного диапазон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огарифмирования сигналов, в пределах которого ошибка логарифмирования не превышает заданных значений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х) и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х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определяется соотношени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х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/х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где х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х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знач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удовлетворяющие равнениям(11.28) и (11.27) при заданны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200" spc="-1" strike="noStrike">
                <a:solidFill>
                  <a:srgbClr val="000000"/>
                </a:solidFill>
                <a:latin typeface="Courier New"/>
              </a:rPr>
              <a:t>(х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200" spc="-1" strike="noStrike">
                <a:solidFill>
                  <a:srgbClr val="000000"/>
                </a:solidFill>
                <a:latin typeface="Courier New"/>
              </a:rPr>
              <a:t>(х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чность осуществляемых с помощью схем рис. 11.18 нелинейных преобразовании во многом зависит от уровня статической погрешности в ОУ, а также от уровня преобразуемых сигналов. Использование в схемах логарифмирования ОУ с малыми уровнями напряж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ошв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входного тока, проведение мероприятий по компенсации влияния источников статической погрешности позволяют создавать схемы, обеспечивающие выполнение операции логарифмирования входных сигналов при их относительных изменениях в пределах 5...8 дека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12" descr=""/>
          <p:cNvPicPr/>
          <p:nvPr/>
        </p:nvPicPr>
        <p:blipFill>
          <a:blip r:embed="rId1"/>
          <a:srcRect l="0" t="0" r="0" b="12503"/>
          <a:stretch/>
        </p:blipFill>
        <p:spPr>
          <a:xfrm>
            <a:off x="2050920" y="2997360"/>
            <a:ext cx="5042160" cy="2232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059280" y="5445000"/>
            <a:ext cx="103320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Рис.11.1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5508720" y="5407200"/>
            <a:ext cx="114300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Рис.11.2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рис. 11.19 приведена схема логарифмирующего устройства., в которой в роли нелинейного элемента с ВАХ, требуемой для выполнения логарифмирования, выступает транзистор. При включении транзистора, указанном па схеме, он фактически работает в диодном включении, так как разность потенциалов между его базой и коллектором в условиях действия в схеме глубоко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фактически равна нулю. Требуемый же нелинейный (логарифмический) характер обратно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X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ет прямосмещённый переход база-эмиттер. Использование в качестве НЭ в схемах логарифмирования транзисторов вместо диодов обеспечивает расширение диапазона логарифмиров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один-два порядка. Следует отметить, что схемы рис. 11.18 и 11.19 предназначены для преобразования сигнал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в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лько положительной полярности. При нелинейных преобразованиях отрицательных входных напряжений необходимо поменять на обратную полярность включения диодов в этих схемах, а в случаях, когда требуемому логарифмическому преобразованию должны подвергаться как отрицательные, так и положительные входные сигналы, в качестве НЭ в схемах рис. 11.18 и 11.19 в цепи ОС следует включать не один, а два встречновключенных нелинейных эле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ройства нелинейного и параметрического преобразования сигналов могут быть получены в схемах па ОУ за счет использования в них перемножителей. В этих схема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вы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вх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вх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где а - коэффициент пропорциональности. При объединении входов перемножителя получается устройство, в котор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вы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в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. е. схема перемножения выступает в роли схемы возведения в квадрат. Включение последнего устройства в цепь ОС устройства рис. 11.18,бобеспечивает создание нелинейного преобразователя (рис. 11.20), в котором напряжение на выходе пропорционально корню квадратному из значения входного сигнала, т. е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вы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где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— нормирующий параметр, имеющий размерность напря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11.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хеме рис. 11.6, а трехполюсник работает в режиме коротко­го замыкания его выходного зажима а на точку нулевого потен­циала, так как благодаря действию в схеме глубокой OOCзначе­ние потенциала </a:t>
            </a:r>
            <a:r>
              <a:rPr b="1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го зажима независимо от выходного тока трехполюсника практически равно нулю. Передаточные свойства трехполюсника при таком режиме его работы целесообразно оха­рактеризовать передаточным (взаимным) сопротивлением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меющим место в режиме короткого замыкания зажима а на точку нулевого потенциала (при W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). Значение этого сопротив­ления определяется соотношением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i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кз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кз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выходной ток трехполюсника в режиме короткого замыкания при воздейст­вии на его вход сигнального напряжения ив. В соответствии с принципами приближенного анализа можно составить следующую цепочку вытекающих друг из друга и (11.7) и (11.8) соотношений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;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-u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вых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u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вх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R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u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вх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Z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i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-i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кз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кз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u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Z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кз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вх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Z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вых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u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вх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Z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кз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1.9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u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вых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u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вх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Z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кз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Z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ным случаем трехполюсника является его выполнение по Т-образной схеме (рис. 11.7). При этом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кз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Z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Z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Z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Z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значение коэффициента передачи в схеме рис. 11.6, а согласно (11.9) определяется соотношением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кз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Z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(Z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Z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Z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Z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1.10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2" descr=""/>
          <p:cNvPicPr/>
          <p:nvPr/>
        </p:nvPicPr>
        <p:blipFill>
          <a:blip r:embed="rId1"/>
          <a:srcRect l="0" t="0" r="0" b="13167"/>
          <a:stretch/>
        </p:blipFill>
        <p:spPr>
          <a:xfrm>
            <a:off x="468360" y="333360"/>
            <a:ext cx="15555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Обычно трехполюсное соединение в схеме рис. 11.6, а используется в варианте, при котором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=Z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= Z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= R, а Z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. В этом случае при достаточно высокоомных сопротивлениях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схема 11.6, а может выступать в роли масштабного усилителя, который в отличие от схемы рис. 11.5, а может одновременно обладать как повышенным входным сопротивлением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</a:rPr>
              <a:t>вх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, так и большим усилением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ru-RU" sz="15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</a:rPr>
              <a:t> = 2 +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ru-RU" sz="1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ru-RU" sz="1500" spc="-1" strike="noStrike">
                <a:solidFill>
                  <a:srgbClr val="000000"/>
                </a:solidFill>
                <a:latin typeface="Gulim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Gulim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Gulim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Gulim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Gulim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Gulim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(11.11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Для схемы неинвертирующего включения ОУ с трехполюсником в цепи ОС (рис. 11.6,6) аналогичным способом могут бытьполучены соотношения, аналогичные соотношениям (11.10а) и (11.106), а именно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+ (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1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1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 + Z</a:t>
            </a:r>
            <a:r>
              <a:rPr b="0" i="1" lang="en-US" sz="15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15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 + Z</a:t>
            </a:r>
            <a:r>
              <a:rPr b="0" i="1" lang="en-US" sz="1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15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 + Z</a:t>
            </a:r>
            <a:r>
              <a:rPr b="0" i="1" lang="en-US" sz="15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1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)/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15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2R/R3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Для комбинированной схемы включения (рис. 11.6, в), как следует из (11.10)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(11.12)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ru-RU" sz="1500" spc="-1" strike="noStrike" baseline="-25000">
                <a:solidFill>
                  <a:srgbClr val="000000"/>
                </a:solidFill>
                <a:latin typeface="Times New Roman"/>
              </a:rPr>
              <a:t>вых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= [1 + (Z</a:t>
            </a:r>
            <a:r>
              <a:rPr b="0" i="1" lang="en-US" sz="1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1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 + Z</a:t>
            </a:r>
            <a:r>
              <a:rPr b="0" i="1" lang="en-US" sz="15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15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 + Z</a:t>
            </a:r>
            <a:r>
              <a:rPr b="0" i="1" lang="en-US" sz="1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15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 + Z</a:t>
            </a:r>
            <a:r>
              <a:rPr b="0" i="1" lang="en-US" sz="15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1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)/Z</a:t>
            </a:r>
            <a:r>
              <a:rPr b="0" i="1" lang="en-US" sz="15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1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ru-RU" sz="1500" spc="-1" strike="noStrike" baseline="-25000">
                <a:solidFill>
                  <a:srgbClr val="000000"/>
                </a:solidFill>
                <a:latin typeface="Times New Roman"/>
              </a:rPr>
              <a:t>вх+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-[(Z</a:t>
            </a:r>
            <a:r>
              <a:rPr b="0" i="1" lang="en-US" sz="1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1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+Z</a:t>
            </a:r>
            <a:r>
              <a:rPr b="0" i="1" lang="en-US" sz="1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15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+Z</a:t>
            </a:r>
            <a:r>
              <a:rPr b="0" i="1" lang="en-US" sz="1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15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)/Z</a:t>
            </a:r>
            <a:r>
              <a:rPr b="0" i="1" lang="en-US" sz="1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15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ru-RU" sz="1500" spc="-1" strike="noStrike" baseline="-25000">
                <a:solidFill>
                  <a:srgbClr val="000000"/>
                </a:solidFill>
                <a:latin typeface="Times New Roman"/>
              </a:rPr>
              <a:t>вх-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ru-RU" sz="1500" spc="-1" strike="noStrike" baseline="-25000">
                <a:solidFill>
                  <a:srgbClr val="000000"/>
                </a:solidFill>
                <a:latin typeface="Times New Roman"/>
              </a:rPr>
              <a:t>вых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</a:rPr>
              <a:t>2 (2 +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</a:rPr>
              <a:t>З)u</a:t>
            </a:r>
            <a:r>
              <a:rPr b="0" i="1" lang="ru-RU" sz="1500" spc="-1" strike="noStrike" baseline="-25000">
                <a:solidFill>
                  <a:srgbClr val="000000"/>
                </a:solidFill>
                <a:latin typeface="Times New Roman"/>
              </a:rPr>
              <a:t>вх+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</a:rPr>
              <a:t>(2 +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ru-RU" sz="1500" spc="-1" strike="noStrike" baseline="-25000">
                <a:solidFill>
                  <a:srgbClr val="000000"/>
                </a:solidFill>
                <a:latin typeface="Times New Roman"/>
              </a:rPr>
              <a:t>вх-.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(11.13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Выходное сопротивление схемных построений на ОУ с глубокой отрицательной обратной связью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Достоинством схем обработки, организованных в виде типовых схемных построений на ОУ с глубокой ООС, является малое значение их выходного сопротивления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ru-RU" sz="1300" spc="-1" strike="noStrike" baseline="-25000">
                <a:solidFill>
                  <a:srgbClr val="000000"/>
                </a:solidFill>
                <a:latin typeface="Times New Roman"/>
              </a:rPr>
              <a:t>вых</a:t>
            </a:r>
            <a:r>
              <a:rPr b="0" lang="ru-RU" sz="13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даже в условиях использования ОУ с относительно большим собственным выходным сопротивлением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ru-RU" sz="1300" spc="-1" strike="noStrike" baseline="-25000">
                <a:solidFill>
                  <a:srgbClr val="000000"/>
                </a:solidFill>
                <a:latin typeface="Times New Roman"/>
              </a:rPr>
              <a:t>вых ОУ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. Указанная низкоомность по выходу обусловлена тем, что в этих схемах структура цепи ОС на выходе ОУ, организована по типу параллельного соединения (рис. 5.2). При такой структуре цепи обратной связи T</a:t>
            </a:r>
            <a:r>
              <a:rPr b="0" i="1" lang="ru-RU" sz="1300" spc="-1" strike="noStrike" baseline="-25000">
                <a:solidFill>
                  <a:srgbClr val="000000"/>
                </a:solidFill>
                <a:latin typeface="Times New Roman"/>
              </a:rPr>
              <a:t>вых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, что при T</a:t>
            </a:r>
            <a:r>
              <a:rPr b="0" i="1" lang="ru-RU" sz="1300" spc="-1" strike="noStrike" baseline="-25000">
                <a:solidFill>
                  <a:srgbClr val="000000"/>
                </a:solidFill>
                <a:latin typeface="Times New Roman"/>
              </a:rPr>
              <a:t>вых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∞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)≠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иводит согласно (5.2г) к снижению выходного сопротивления схемы в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1+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ru-RU" sz="1300" spc="-1" strike="noStrike" baseline="-25000">
                <a:solidFill>
                  <a:srgbClr val="000000"/>
                </a:solidFill>
                <a:latin typeface="Times New Roman"/>
              </a:rPr>
              <a:t>вых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∞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), где T</a:t>
            </a:r>
            <a:r>
              <a:rPr b="0" i="1" lang="ru-RU" sz="1300" spc="-1" strike="noStrike" baseline="-25000">
                <a:solidFill>
                  <a:srgbClr val="000000"/>
                </a:solidFill>
                <a:latin typeface="Times New Roman"/>
              </a:rPr>
              <a:t>вых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),T</a:t>
            </a:r>
            <a:r>
              <a:rPr b="0" i="1" lang="ru-RU" sz="1300" spc="-1" strike="noStrike" baseline="-25000">
                <a:solidFill>
                  <a:srgbClr val="000000"/>
                </a:solidFill>
                <a:latin typeface="Times New Roman"/>
              </a:rPr>
              <a:t>вых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∞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)—значение петлевой передачи в условиях накоротко замкнутых выходных зажимов и при отсоединенной от этих зажимов внешней цепи (цепи нагрузки). Таким образом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ru-RU" sz="1300" spc="-1" strike="noStrike" baseline="-25000">
                <a:solidFill>
                  <a:srgbClr val="000000"/>
                </a:solidFill>
                <a:latin typeface="Times New Roman"/>
              </a:rPr>
              <a:t>вых</a:t>
            </a:r>
            <a:r>
              <a:rPr b="0" lang="ru-RU" sz="13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ru-RU" sz="1300" spc="-1" strike="noStrike" baseline="-25000">
                <a:solidFill>
                  <a:srgbClr val="000000"/>
                </a:solidFill>
                <a:latin typeface="Times New Roman"/>
              </a:rPr>
              <a:t>вых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/[1+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ru-RU" sz="1300" spc="-1" strike="noStrike" baseline="-25000">
                <a:solidFill>
                  <a:srgbClr val="000000"/>
                </a:solidFill>
                <a:latin typeface="Times New Roman"/>
              </a:rPr>
              <a:t>вых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∞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11.14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где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ru-RU" sz="1300" spc="-1" strike="noStrike" baseline="-25000">
                <a:solidFill>
                  <a:srgbClr val="000000"/>
                </a:solidFill>
                <a:latin typeface="Times New Roman"/>
              </a:rPr>
              <a:t>вых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ru-RU" sz="1300" spc="-1" strike="noStrike" baseline="-25000">
                <a:solidFill>
                  <a:srgbClr val="000000"/>
                </a:solidFill>
                <a:latin typeface="Times New Roman"/>
              </a:rPr>
              <a:t>вых ОУ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</a:rPr>
              <a:t>ǁZ</a:t>
            </a:r>
            <a:r>
              <a:rPr b="0" i="1" lang="ru-RU" sz="13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условиях, когда в схеме рис. 11.8 можно пренебречь влиянием на прохождение сигнала по цепи обратной связи собственных входных сопротивлений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ru-RU" sz="1300" spc="-1" strike="noStrike" baseline="-25000">
                <a:solidFill>
                  <a:srgbClr val="000000"/>
                </a:solidFill>
                <a:latin typeface="Times New Roman"/>
              </a:rPr>
              <a:t>вх</a:t>
            </a:r>
            <a:r>
              <a:rPr b="0" lang="ru-RU" sz="1300" spc="-1" strike="noStrike" baseline="-25000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ru-RU" sz="1300" spc="-1" strike="noStrike" baseline="-25000">
                <a:solidFill>
                  <a:srgbClr val="000000"/>
                </a:solidFill>
                <a:latin typeface="Times New Roman"/>
              </a:rPr>
              <a:t>вх</a:t>
            </a:r>
            <a:r>
              <a:rPr b="0" lang="ru-RU" sz="13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виду их высокоомностипо сравнению с сопротивлениями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3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и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3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,значение петлевой передачи можно вычислить по формуле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ru-RU" sz="1300" spc="-1" strike="noStrike" baseline="-25000">
                <a:solidFill>
                  <a:srgbClr val="000000"/>
                </a:solidFill>
                <a:latin typeface="Times New Roman"/>
              </a:rPr>
              <a:t>вых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∞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</a:rPr>
              <a:t>)=К</a:t>
            </a:r>
            <a:r>
              <a:rPr b="0" i="1" lang="ru-RU" sz="1300" spc="-1" strike="noStrike" baseline="-25000">
                <a:solidFill>
                  <a:srgbClr val="000000"/>
                </a:solidFill>
                <a:latin typeface="Times New Roman"/>
              </a:rPr>
              <a:t>ба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i="1" lang="ru-RU" sz="1300" spc="-1" strike="noStrike" baseline="-25000">
                <a:solidFill>
                  <a:srgbClr val="000000"/>
                </a:solidFill>
                <a:latin typeface="Times New Roman"/>
              </a:rPr>
              <a:t>аг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i="1" lang="ru-RU" sz="1300" spc="-1" strike="noStrike" baseline="-25000">
                <a:solidFill>
                  <a:srgbClr val="000000"/>
                </a:solidFill>
                <a:latin typeface="Times New Roman"/>
              </a:rPr>
              <a:t>гв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1300" spc="-1" strike="noStrike">
                <a:solidFill>
                  <a:srgbClr val="000000"/>
                </a:solidFill>
                <a:latin typeface="Gulim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Gulim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Gulim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Gulim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Gulim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Gulim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Gulim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[(R</a:t>
            </a:r>
            <a:r>
              <a:rPr b="0" i="1" lang="en-US" sz="1300" spc="-1" strike="noStrike" baseline="-25000">
                <a:solidFill>
                  <a:srgbClr val="000000"/>
                </a:solidFill>
                <a:latin typeface="Times New Roman"/>
              </a:rPr>
              <a:t>с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+R1)/(R</a:t>
            </a:r>
            <a:r>
              <a:rPr b="0" i="1" lang="en-US" sz="13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+R1 +R</a:t>
            </a:r>
            <a:r>
              <a:rPr b="0" lang="ru-RU" sz="13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)] [К</a:t>
            </a:r>
            <a:r>
              <a:rPr b="0" i="1" lang="en-US" sz="1300" spc="-1" strike="noStrike" baseline="-25000">
                <a:solidFill>
                  <a:srgbClr val="000000"/>
                </a:solidFill>
                <a:latin typeface="Times New Roman"/>
              </a:rPr>
              <a:t>д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] [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13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(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13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ru-RU" sz="1300" spc="-1" strike="noStrike" baseline="-25000">
                <a:solidFill>
                  <a:srgbClr val="000000"/>
                </a:solidFill>
                <a:latin typeface="Times New Roman"/>
              </a:rPr>
              <a:t>вых ОУ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11.15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13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i="1" lang="en-US" sz="13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 + Rl + R</a:t>
            </a:r>
            <a:r>
              <a:rPr b="0" lang="ru-RU" sz="13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сле подстановки (11.15) в (11.14) получаем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ru-RU" sz="1300" spc="-1" strike="noStrike" baseline="-25000">
                <a:solidFill>
                  <a:srgbClr val="000000"/>
                </a:solidFill>
                <a:latin typeface="Times New Roman"/>
              </a:rPr>
              <a:t>вых</a:t>
            </a:r>
            <a:r>
              <a:rPr b="0" lang="ru-RU" sz="13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</a:rPr>
              <a:t>=1+R</a:t>
            </a:r>
            <a:r>
              <a:rPr b="0" i="1" lang="ru-RU" sz="1300" spc="-1" strike="noStrike" baseline="-25000">
                <a:solidFill>
                  <a:srgbClr val="000000"/>
                </a:solidFill>
                <a:latin typeface="Times New Roman"/>
              </a:rPr>
              <a:t>выхОУ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</a:rPr>
              <a:t>[1+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3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300" spc="-1" strike="noStrike" baseline="-25000">
                <a:solidFill>
                  <a:srgbClr val="000000"/>
                </a:solidFill>
                <a:latin typeface="Times New Roman"/>
              </a:rPr>
              <a:t>с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</a:rPr>
              <a:t>1)]/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ru-RU" sz="1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3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3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3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4067280" y="2924280"/>
            <a:ext cx="914400" cy="23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Рис.11.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3" descr=""/>
          <p:cNvPicPr/>
          <p:nvPr/>
        </p:nvPicPr>
        <p:blipFill>
          <a:blip r:embed="rId1"/>
          <a:srcRect l="0" t="0" r="0" b="13725"/>
          <a:stretch/>
        </p:blipFill>
        <p:spPr>
          <a:xfrm>
            <a:off x="826920" y="2565360"/>
            <a:ext cx="34671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Выражение, стоящее в квадратных скобках, обычно существенно не отличается от коэффициента усиления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схемы, который меньше номинального значения коэффициента усиления ОУ в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раз, где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— глубина ОС, т. е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ru-RU" sz="1500" spc="-1" strike="noStrike" baseline="-25000">
                <a:solidFill>
                  <a:srgbClr val="000000"/>
                </a:solidFill>
                <a:latin typeface="Times New Roman"/>
              </a:rPr>
              <a:t>вых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ru-RU" sz="1500" spc="-1" strike="noStrike" baseline="-25000">
                <a:solidFill>
                  <a:srgbClr val="000000"/>
                </a:solidFill>
                <a:latin typeface="Times New Roman"/>
              </a:rPr>
              <a:t>выхОУ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</a:rPr>
              <a:t>/F.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Таким образом, в условиях глубокой ОС (F&gt;1) выходное сопротивление схемы па ОУ существенно меньше номинального выходного сопротивления самого ОУ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Дифференциальные усилители на ОУ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Операционные усилители по своему схемному построению являются дифференциальными. Ho их непосредственное использование в качестве ДУ обычно оказывается невозможным как из-за неприемлемо большого их усиления, так и существенной нестабильности и неопределенности этого усиления. В связи с этим построение дифференциальных усилителей с использованием ОУ осуществляется по типу устройств с глубокими OOCпри комбинированном включении ОУ в схему обработки (рис. 11.5,в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Простейшая схема ДУ этого типа приведена на рис. 11.9. В этой схеме требуемое для ДУ равенство полных коэффициентов передачи относительно неинвертирующего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</a:rPr>
              <a:t>f+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и инвертирующего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</a:rPr>
              <a:t>f-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входов достигается с помощью дополнительного делителя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2, R3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, включенного в цепь неинвертирующего входа усилителя. Выполнению условия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</a:rPr>
              <a:t>f+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+K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</a:rPr>
              <a:t>f-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и соответственноравенству нулю коэффициента K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, согласно (11.13) отвечают соотношения между значениями сопротивлений, удовлетворяющие уравнению (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+ R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/R1)a + R2/(R2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3) = (R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/R1)a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В обычно выполняемых на практике условиях µ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»1(а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=а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) последнему соотношению эквивалентно равенство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/R1=R3/R2.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В этих условиях K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≈ 0, а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/R1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4" descr=""/>
          <p:cNvPicPr/>
          <p:nvPr/>
        </p:nvPicPr>
        <p:blipFill>
          <a:blip r:embed="rId1"/>
          <a:stretch/>
        </p:blipFill>
        <p:spPr>
          <a:xfrm>
            <a:off x="2195640" y="189000"/>
            <a:ext cx="4819680" cy="4827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995640" y="1700280"/>
            <a:ext cx="914400" cy="23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Рис.11.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2627280" y="472428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Рис.11.1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5364000" y="471312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Рис.11.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остатком рассматриваемом схемы ДУ является относительно невысокое значение ее входных сопротивлений, особенно в случаях, когда от схемы ДУ требуется получить высокое значение усиления К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В этой схеме согласно данным §11.4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=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I, 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R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R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ественно лучшими свойствами в отношении входного сопротивления обладает схема рис. 11.10, организованная па основе схемной конфигурации рис. 11.6, в. В этой схемной конфигурации, в условия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 =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верхнее плечо делителя, включенного в цепь неинвертирующего входа схемы рис. 11.10,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— нижнее плечо делител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При этом резистор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гут быть относительно высокоомными даже при больших значениях коэффициента K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Выполнению условия K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K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соответственно равенству пулю коэффициен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гласно (11.6в) отвечают соотношения, между значениями сопротивлени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R2, удовлетворяющие уравн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(2 + R/R3)R2/(Rl + R2) = (2 + R/R3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евидно, что последнее соотношение выполняется пр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/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) = 1/2, при этом в схеме рис. 11.1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= 0,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= 2 + R/R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ще большими значениями входных сопротивлений обладает схема рис. 11.11, организованная на двух О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ней входные сопротивл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еют предельно достижимые значения, равные 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xc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выполнении услов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I=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схема обладает нулевым коэффициентом передач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0и дифференциальным коэффициентом усил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хемы для преобразования сигнальных токов в сигнальные напряжения на базе О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основным параметрам, определяющим качество схемы преобразования ток-напряжение, относится сопротивление Z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го преобразования, а также значения входн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вx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выходн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выx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опротивлений схемы, с помощью которой осуществляется это преобразование. Считается, что эффективность работы схемы преобразования тем выше, чем большим сопротивлением Z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а обладает и чем меньше у нее входное сопротив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терием того, что входное сопротивление мало, является степень выполнения неравенств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в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Пр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в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&lt;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сь ток источника практически без потерь с коэффициентом передачи по току, равным единиц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), поступает в схему преобразования, в результате чего напряжение на ее выходе независимо от сопротивл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определяется соотнош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выx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значения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вx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измеримых с сопротивление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его превышающих, происходит ответвление тока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это сопротив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образованием, близким к идеальному, обладает схема рис. 11.12. Еeвходное сопротивление благодаря проявлению эффекта Миллера и высоким усилительным свойствам ОУ даже при относительно больших значениях сопротивления Z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ет быть пренебрежимо малым. В соответствии с (5.12) и (6.17) значение этого сопротивления, а также коэффициента передач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ка на входе схемы определяются соотнош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вx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= 1/g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вx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= Z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/ (1 + К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д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);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Times New Roman"/>
              </a:rPr>
              <a:t>вх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/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Times New Roman"/>
              </a:rPr>
              <a:t>вх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+1/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Times New Roman"/>
              </a:rPr>
              <a:t>с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)≈1-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/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Times New Roman"/>
              </a:rPr>
              <a:t>с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Times New Roman"/>
              </a:rPr>
              <a:t>д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11.1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5" descr=""/>
          <p:cNvPicPr/>
          <p:nvPr/>
        </p:nvPicPr>
        <p:blipFill>
          <a:blip r:embed="rId1"/>
          <a:srcRect l="0" t="0" r="0" b="17168"/>
          <a:stretch/>
        </p:blipFill>
        <p:spPr>
          <a:xfrm>
            <a:off x="755640" y="4221000"/>
            <a:ext cx="3600360" cy="1609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00720" y="4941720"/>
            <a:ext cx="914400" cy="23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Рис.11.1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гласно (11.17) при значениях Z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соизмеримых и больших величины произвед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зультат преобразования тока в напряжение в схеме рис. 11.12 зависит от сопротивл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В этом случае в отличие от (11.15) выходное напряжение определяется соотношением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Times New Roman"/>
              </a:rPr>
              <a:t>вы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огичные явления наблюдаются при малых значениях сопротивл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когда оно оказывается меньшим и соизмеримым с величиной сопротивл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хема рис. 11.12благодаря своей низкоомности по входу способна воспринимать (собирать) токи ряда источников независимо от их выходных сопротивлений, т. е. выступать в качестве идеального сумматора токов. В этой схеме в условиях действия глубокой ОС, когд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'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в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=0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'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в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=0, i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i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+i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+…+i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а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Times New Roman"/>
              </a:rPr>
              <a:t>вы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i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Times New Roman"/>
              </a:rPr>
              <a:t>вы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200" spc="-1" strike="noStrike">
                <a:solidFill>
                  <a:srgbClr val="000000"/>
                </a:solidFill>
                <a:latin typeface="Sylfaen"/>
              </a:rPr>
              <a:t>=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+i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+…+i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1200" spc="-1" strike="noStrike">
                <a:solidFill>
                  <a:srgbClr val="000000"/>
                </a:solidFill>
                <a:latin typeface="Sylfaen"/>
              </a:rPr>
              <a:t>) R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Sylfaen"/>
              </a:rPr>
              <a:t>f</a:t>
            </a:r>
            <a:r>
              <a:rPr b="0" i="1" lang="en-US" sz="1200" spc="-1" strike="noStrike">
                <a:solidFill>
                  <a:srgbClr val="000000"/>
                </a:solidFill>
                <a:latin typeface="Sylfae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11.1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умматоры напряжений на базе О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рис. 11.13 приведена схема устройства для взвешенного и взаимозависимого суммирования сигналов от ряда источников напряжения. Она получается из схемы рис. 11.12 при преобразовании в ней источников тока в источники напряжения. При э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Times New Roman"/>
              </a:rPr>
              <a:t>вы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Times New Roman"/>
              </a:rPr>
              <a:t>в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+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Times New Roman"/>
              </a:rPr>
              <a:t>в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+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Times New Roman"/>
              </a:rPr>
              <a:t>в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xn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1-1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6" descr=""/>
          <p:cNvPicPr/>
          <p:nvPr/>
        </p:nvPicPr>
        <p:blipFill>
          <a:blip r:embed="rId1"/>
          <a:srcRect l="0" t="0" r="0" b="15564"/>
          <a:stretch/>
        </p:blipFill>
        <p:spPr>
          <a:xfrm>
            <a:off x="1042920" y="3645000"/>
            <a:ext cx="3260880" cy="15843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7" descr=""/>
          <p:cNvPicPr/>
          <p:nvPr/>
        </p:nvPicPr>
        <p:blipFill>
          <a:blip r:embed="rId2"/>
          <a:srcRect l="0" t="0" r="0" b="13563"/>
          <a:stretch/>
        </p:blipFill>
        <p:spPr>
          <a:xfrm>
            <a:off x="5148360" y="3645000"/>
            <a:ext cx="3165480" cy="1800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124000" y="550548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Рис.11.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6443640" y="5445000"/>
            <a:ext cx="914400" cy="23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Рис.11.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0T05:09:27Z</dcterms:created>
  <dc:creator>bibl3</dc:creator>
  <dc:description/>
  <dc:language>en-US</dc:language>
  <cp:lastModifiedBy>DreamFdr</cp:lastModifiedBy>
  <dcterms:modified xsi:type="dcterms:W3CDTF">2013-05-29T17:42:41Z</dcterms:modified>
  <cp:revision>16</cp:revision>
  <dc:subject/>
  <dc:title>Слайд 1</dc:title>
</cp:coreProperties>
</file>